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EB13-02FC-4F2A-ADA1-B0963566D35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B6F-702A-413B-A2C9-7E60B04163B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124-1632-45AC-B05E-C349BA25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957240" y="685800"/>
            <a:ext cx="4943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C68-EB92-4745-8A5D-7E2C41BB28A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8579-5D60-46CB-88D1-4141A1598D0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5F9F-3BA3-447B-95B7-CCEB7635D9E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685-C5A4-4791-A338-B208C1E19EB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34A-A99D-492F-85AD-1714EEE6CE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89A-9D67-4AE5-A8D7-D4FB6F04107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EC5-3207-4519-9AF3-0DE80A7986C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AE16-BD9A-40DC-A1D1-81EBB11E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957240" y="685800"/>
            <a:ext cx="4943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A7AA-B637-4B2B-A3D7-BB43F151323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F32-81ED-460C-9FA6-8F9F49F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DAF-092A-48F7-A5FB-A4F24F1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C2A-B503-4157-B97A-CFC7DF58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334-DF39-47BC-B3BC-47AFD61C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2F1-6F59-45ED-AA7D-0419668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9E9-0C26-4DE6-A913-21855350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2A7-CF76-4991-A55D-F1E47B7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093-DA21-4603-A692-815E5AE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411-2FE8-4E4D-9A60-66D8627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8C5-7280-4DC1-830D-1EF3A11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6FA-8FDB-4610-9EEB-E79920F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2AA-628D-416D-9EBB-946B591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4F7-C8BD-49E6-BBA6-992875ECD5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写真\講演用\中海岸家\P1010107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Times New Roman"/>
              </a:rPr>
              <a:t>ワークショップ</a:t>
            </a:r>
            <a:br>
              <a:rPr sz="4800"/>
            </a:br>
            <a:br>
              <a:rPr sz="4800"/>
            </a:br>
            <a:r>
              <a:rPr b="1" lang="ja-JP" sz="4800" spc="-1" strike="noStrike">
                <a:solidFill>
                  <a:srgbClr val="ffffff"/>
                </a:solidFill>
                <a:latin typeface="Times New Roman"/>
              </a:rPr>
              <a:t>すっきりとはなに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"/>
          <p:cNvSpPr/>
          <p:nvPr/>
        </p:nvSpPr>
        <p:spPr>
          <a:xfrm>
            <a:off x="179280" y="620640"/>
            <a:ext cx="3060720" cy="2799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57320" y="3933720"/>
            <a:ext cx="4198680" cy="2725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47640" y="0"/>
            <a:ext cx="59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グループ名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116000" y="404640"/>
            <a:ext cx="1224000" cy="468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＜位置・場所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が決まっていな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835280" y="3933720"/>
            <a:ext cx="1439640" cy="505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＜量＞の把握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できてい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678720" y="593640"/>
            <a:ext cx="2340000" cy="2799000"/>
          </a:xfrm>
          <a:custGeom>
            <a:avLst/>
            <a:gdLst>
              <a:gd name="textAreaLeft" fmla="*/ 114120 w 2340000"/>
              <a:gd name="textAreaRight" fmla="*/ 2225880 w 2340000"/>
              <a:gd name="textAreaTop" fmla="*/ 114120 h 2799000"/>
              <a:gd name="textAreaBottom" fmla="*/ 2684880 h 2799000"/>
            </a:gdLst>
            <a:ahLst/>
            <a:rect l="textAreaLeft" t="textAreaTop" r="textAreaRight" b="textAreaBottom"/>
            <a:pathLst>
              <a:path w="21600" h="25836">
                <a:moveTo>
                  <a:pt x="3600" y="0"/>
                </a:moveTo>
                <a:arcTo wR="3600" hR="3600" stAng="16200000" swAng="-5400000"/>
                <a:lnTo>
                  <a:pt x="0" y="22236"/>
                </a:lnTo>
                <a:arcTo wR="3600" hR="3600" stAng="10800000" swAng="-5400000"/>
                <a:lnTo>
                  <a:pt x="18000" y="25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7164360" y="476280"/>
            <a:ext cx="1379520" cy="431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＜別の場所＞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移動させ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300720" y="3789360"/>
            <a:ext cx="2700360" cy="287964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34">
                <a:moveTo>
                  <a:pt x="3600" y="0"/>
                </a:moveTo>
                <a:arcTo wR="3600" hR="3600" stAng="16200000" swAng="-5400000"/>
                <a:lnTo>
                  <a:pt x="0" y="19434"/>
                </a:lnTo>
                <a:arcTo wR="3600" hR="3600" stAng="10800000" swAng="-5400000"/>
                <a:lnTo>
                  <a:pt x="18000" y="230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99880" y="103032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が沢山だと雨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日に傘置き場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困らない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31920" y="147312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洗剤のストック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ここがベスト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14280" y="189072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夏物がまぎれ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いたりしない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51000" y="233028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プリンター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位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適切か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193840" y="98748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上の空間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もったい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251000" y="105084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所定の場所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しまうことができ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のはすごい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1258920" y="148428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ｷｯﾁﾝは一日何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も使い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258920" y="190980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ﾊﾟｿｺﾝとﾌﾟﾘﾝﾀｰ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関係は面倒で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（ｹｰﾌﾞﾙが邪魔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24000" y="278136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書棚が別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部屋にある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なぜか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231920" y="241308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く場所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決まってい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178000" y="140508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置き場所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決まってい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2178000" y="185436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決まれ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出来そう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178000" y="230184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引き出しを入れ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ことで置き場所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きまるので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2158920" y="274644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テーブルの上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とりあえ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いてしま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877080" y="981000"/>
            <a:ext cx="10206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別の場所にまとめ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収納でき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をしま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6902280" y="1503360"/>
            <a:ext cx="10922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昔の書類必要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箱にしまい別の場所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（期限を決めて処分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6929280" y="2035080"/>
            <a:ext cx="197964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いるものいらないものより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使っているもの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使っていないも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いらないものに分け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のみ収納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別の場所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6912000" y="2527200"/>
            <a:ext cx="10922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書類と本は別々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する必要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あるの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7939080" y="2562120"/>
            <a:ext cx="9986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個室に置くの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個別で管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できるのでしょう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7885080" y="981000"/>
            <a:ext cx="112572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箱にブーツ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入ら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7931160" y="1490760"/>
            <a:ext cx="1098720" cy="49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現状ではブーツを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どかさない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扉が開か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6475320" y="509904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雑誌が捨てられ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7667640" y="5589720"/>
            <a:ext cx="1081080" cy="46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新聞を捨てよ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2"/>
          <p:cNvSpPr/>
          <p:nvPr/>
        </p:nvSpPr>
        <p:spPr>
          <a:xfrm>
            <a:off x="7694640" y="5229360"/>
            <a:ext cx="1081080" cy="46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新聞は資源ごみ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出しては。」部屋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ｽﾍﾟｰｽを広くするた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4"/>
          <p:cNvSpPr/>
          <p:nvPr/>
        </p:nvSpPr>
        <p:spPr>
          <a:xfrm>
            <a:off x="6364440" y="3732120"/>
            <a:ext cx="1260360" cy="459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＜捨て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!!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＞こと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きな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6507000" y="553248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も、この中に全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収まっている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良いと思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7667640" y="602136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雑誌の中でほし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情報は、その中の少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後入らないですよね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6526080" y="4255920"/>
            <a:ext cx="223200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まずは使わない食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リサイクル・処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期限切れの食品を処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品は同じグループに収納す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7686720" y="479268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乾物はすぐ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買ってしまうｽ（ﾄｯｸを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記憶してないから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6516720" y="602136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捨てる感覚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適切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395280" y="404172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器は新しいもの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ほしくなり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378000" y="4518000"/>
            <a:ext cx="125856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靴の量を見直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季節外は別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場所へしま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430200" y="504036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一箇所ずつ物を見直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減ら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404640" y="553572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収納量より物が多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ので、玄関に置く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2843280" y="443700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ｷｯﾁﾝのｼﾝｸ下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箱が大き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1622520" y="461340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乾物缶詰などｽｰﾊﾟ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安売りしている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必ず買ってしまい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1649520" y="514512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調理器具っ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いっぱいありま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4788000" y="5445000"/>
            <a:ext cx="1260360" cy="1079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8"/>
          <p:cNvSpPr/>
          <p:nvPr/>
        </p:nvSpPr>
        <p:spPr>
          <a:xfrm>
            <a:off x="4932360" y="5373720"/>
            <a:ext cx="979560" cy="314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＜一般論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9"/>
          <p:cNvSpPr/>
          <p:nvPr/>
        </p:nvSpPr>
        <p:spPr>
          <a:xfrm>
            <a:off x="4932360" y="5805360"/>
            <a:ext cx="93816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男の人は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片付けな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6535800" y="4756320"/>
            <a:ext cx="1081080" cy="46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器の棚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手前のものし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使っていませ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1"/>
          <p:cNvSpPr/>
          <p:nvPr/>
        </p:nvSpPr>
        <p:spPr>
          <a:xfrm>
            <a:off x="3348000" y="1341360"/>
            <a:ext cx="3060720" cy="2509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2"/>
          <p:cNvSpPr/>
          <p:nvPr/>
        </p:nvSpPr>
        <p:spPr>
          <a:xfrm>
            <a:off x="3492360" y="148752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書棚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買い足さ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3448080" y="193032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奥に収納し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ものは長い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ほおっ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おきま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4500720" y="1628640"/>
            <a:ext cx="103824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積み上げ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使いにくそ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3411360" y="2417760"/>
            <a:ext cx="111456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平らにした白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棚の上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何を置く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3456000" y="287496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収納が足りなくなる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つい手軽な家具（ｶﾗ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ﾎﾞｯｸｽ等）を買い足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6"/>
          <p:cNvSpPr/>
          <p:nvPr/>
        </p:nvSpPr>
        <p:spPr>
          <a:xfrm>
            <a:off x="4500720" y="2133720"/>
            <a:ext cx="104616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本は立て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いたほう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取り出しやす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9"/>
          <p:cNvSpPr/>
          <p:nvPr/>
        </p:nvSpPr>
        <p:spPr>
          <a:xfrm>
            <a:off x="5508720" y="2924280"/>
            <a:ext cx="1028520" cy="49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扉があると何で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入れちゃいますよ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0"/>
          <p:cNvSpPr/>
          <p:nvPr/>
        </p:nvSpPr>
        <p:spPr>
          <a:xfrm>
            <a:off x="5381640" y="1868400"/>
            <a:ext cx="112392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取りやす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並べられない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1"/>
          <p:cNvSpPr/>
          <p:nvPr/>
        </p:nvSpPr>
        <p:spPr>
          <a:xfrm>
            <a:off x="5478480" y="2451240"/>
            <a:ext cx="10526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すぐに重ね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収納してしまい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2"/>
          <p:cNvSpPr/>
          <p:nvPr/>
        </p:nvSpPr>
        <p:spPr>
          <a:xfrm>
            <a:off x="4500720" y="2637000"/>
            <a:ext cx="1062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本は立てて収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したいけど雑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などは立ちにくいで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3"/>
          <p:cNvSpPr/>
          <p:nvPr/>
        </p:nvSpPr>
        <p:spPr>
          <a:xfrm>
            <a:off x="3780000" y="1052640"/>
            <a:ext cx="2232000" cy="358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＜収納方法＞の工夫が足りな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4"/>
          <p:cNvSpPr/>
          <p:nvPr/>
        </p:nvSpPr>
        <p:spPr>
          <a:xfrm>
            <a:off x="378000" y="6058080"/>
            <a:ext cx="125856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など郵便物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すぐたま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"/>
          <p:cNvSpPr/>
          <p:nvPr/>
        </p:nvSpPr>
        <p:spPr>
          <a:xfrm>
            <a:off x="1619280" y="609300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ザルとボール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数はベスト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1684440" y="562284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現在の家族それぞれ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が何足ある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実は私も知ら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7"/>
          <p:cNvSpPr/>
          <p:nvPr/>
        </p:nvSpPr>
        <p:spPr>
          <a:xfrm>
            <a:off x="2843280" y="494172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昔の書類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全て必要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2843280" y="544500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靴の量と種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が多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9"/>
          <p:cNvSpPr/>
          <p:nvPr/>
        </p:nvSpPr>
        <p:spPr>
          <a:xfrm>
            <a:off x="2916360" y="595008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買っ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忘れてしま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4459320" y="3143160"/>
            <a:ext cx="110808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積んでしまうとどこ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何の本がある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わかりませんよ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テキスト ボックス 69"/>
          <p:cNvSpPr/>
          <p:nvPr/>
        </p:nvSpPr>
        <p:spPr>
          <a:xfrm>
            <a:off x="1116000" y="242100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似た物同士のかたまりの関係をみ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線で囲んだり矢印をつけたりし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 全体で「すっきり」を説明できるように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左右矢印 70"/>
          <p:cNvSpPr/>
          <p:nvPr/>
        </p:nvSpPr>
        <p:spPr>
          <a:xfrm>
            <a:off x="4427640" y="4869000"/>
            <a:ext cx="1728720" cy="288720"/>
          </a:xfrm>
          <a:prstGeom prst="leftRight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左右矢印 71"/>
          <p:cNvSpPr/>
          <p:nvPr/>
        </p:nvSpPr>
        <p:spPr>
          <a:xfrm rot="16200000">
            <a:off x="539640" y="3607920"/>
            <a:ext cx="539640" cy="180720"/>
          </a:xfrm>
          <a:prstGeom prst="leftRightArrow">
            <a:avLst>
              <a:gd name="adj1" fmla="val 50000"/>
              <a:gd name="adj2" fmla="val 500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D:\写真\講演用\辰巳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7162920" y="60199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発表</a:t>
            </a:r>
            <a:br>
              <a:rPr sz="4400"/>
            </a:br>
            <a:br>
              <a:rPr sz="4400"/>
            </a:b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わかったこ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D:\写真\ＨＰ庭日記用\4ｇｔｕ 03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　　グループにわかれましょう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写真\講演用\子ども本棚.jpg"/>
          <p:cNvPicPr/>
          <p:nvPr/>
        </p:nvPicPr>
        <p:blipFill>
          <a:blip r:embed="rId1"/>
          <a:stretch/>
        </p:blipFill>
        <p:spPr>
          <a:xfrm>
            <a:off x="-457200" y="19080"/>
            <a:ext cx="9601200" cy="72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個人作業</a:t>
            </a:r>
            <a:br>
              <a:rPr sz="4400"/>
            </a:br>
            <a:br>
              <a:rPr sz="4400"/>
            </a:b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自分の家の中で気になっているところを描きましょ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010280" y="6248520"/>
            <a:ext cx="1524240" cy="3808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2050920" y="1600200"/>
            <a:ext cx="3673440" cy="499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24000" y="4149720"/>
            <a:ext cx="3527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パソコンデスク周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いつも雑然としているのが気にな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書類やケーブルなどをしまう引き出しが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椅子の下にもわけがわからない物や箱が山積み。もう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年以上触っていないかも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リビングにあるので、リビングにいるときに落ち着か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でも、他に置く場所は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>
            <a:off x="2362320" y="1066680"/>
            <a:ext cx="55404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447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家具でも、物でも、部屋でもＯ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5148360" y="1143000"/>
            <a:ext cx="110016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57200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どこなのか、②なにが気になるのか、③どういう状況か、な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5724000" y="3809880"/>
            <a:ext cx="2124360" cy="987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8292960" y="2438280"/>
            <a:ext cx="546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具体的に、なるべくたくさん書くと、人に伝わりやす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2127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D:\写真\講演用\写真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個人作業</a:t>
            </a:r>
            <a:br>
              <a:rPr sz="4400"/>
            </a:br>
            <a:br>
              <a:rPr sz="4400"/>
            </a:b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他の人の絵や説明を見て、　</a:t>
            </a:r>
            <a:br>
              <a:rPr sz="4400"/>
            </a:b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付箋紙を貼りましょ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2050920" y="1600200"/>
            <a:ext cx="3673440" cy="499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858000" y="2057400"/>
            <a:ext cx="14479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858000" y="2743200"/>
            <a:ext cx="14479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858000" y="4648320"/>
            <a:ext cx="144792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858000" y="5257800"/>
            <a:ext cx="14479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7086600" y="2971800"/>
            <a:ext cx="14479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952880" y="609480"/>
            <a:ext cx="5335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0" y="609480"/>
            <a:ext cx="5335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943600" y="685800"/>
            <a:ext cx="5335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3505320" y="1219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76320" y="380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付箋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枚ひとつのことを。一人何枚でもなるべくたくさん貼りましょ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7010280" y="380880"/>
            <a:ext cx="18288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床に物を積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6553080" y="228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2127240" cy="20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124000" y="4149720"/>
            <a:ext cx="3527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パソコンデスク周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いつも雑然としているのが気にな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書類やケーブルなどをしまう引き出しが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椅子の下にもわけがわからない物や箱が山積み。もう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年以上触っていないかも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リビングにあるので、リビングにいるときに落ち着か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・でも、他に置く場所は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:\写真\講演用\台所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514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グループ作業</a:t>
            </a:r>
            <a:br>
              <a:rPr sz="4400"/>
            </a:br>
            <a:br>
              <a:rPr sz="4400"/>
            </a:br>
            <a:r>
              <a:rPr b="1" lang="ja-JP" sz="4400" spc="-1" strike="noStrike">
                <a:solidFill>
                  <a:srgbClr val="ffffff"/>
                </a:solidFill>
                <a:latin typeface="Times New Roman"/>
              </a:rPr>
              <a:t>付箋紙を模造紙に貼りましょ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250920" y="76500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が沢山だと雨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日に傘置き場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困らない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24000" y="11592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洗剤のストック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ここがベスト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79280" y="155736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夏物がまぎれ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いたりしない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51000" y="233028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プリンター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位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適切か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492360" y="404640"/>
            <a:ext cx="90504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上の空間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もったい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332000" y="54936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所定の場所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しまうことができ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のはすごい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332000" y="134136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ｷｯﾁﾝは一日何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も使い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258920" y="1909800"/>
            <a:ext cx="90468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ﾊﾟｿｺﾝとﾌﾟﾘﾝﾀｰ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関係は面倒で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（ｹｰﾌﾞﾙが邪魔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95280" y="292428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書棚が別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部屋にある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なぜか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1403280" y="2852640"/>
            <a:ext cx="90504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く場所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決まってい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411280" y="1125360"/>
            <a:ext cx="90504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置き場所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決まってい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178000" y="185436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決まれ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出来そう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195640" y="2349360"/>
            <a:ext cx="904680" cy="4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引き出しを入れ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ことで置き場所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きまるので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68360" y="3357720"/>
            <a:ext cx="905040" cy="4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テーブルの上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とりあえ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いてしま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6227640" y="620640"/>
            <a:ext cx="102096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別の場所にまとめ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収納でき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をしま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516720" y="1341360"/>
            <a:ext cx="10922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昔の書類必要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箱にしまい別の場所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（期限を決めて処分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6929280" y="2035080"/>
            <a:ext cx="197964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いるものいらないものより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使っているもの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使っていないも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いらないものに分け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のみ収納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別の場所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6732720" y="2781360"/>
            <a:ext cx="10922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書類と本は別々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する必要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あるの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956720" y="2781360"/>
            <a:ext cx="99828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個室に置くの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個別で管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できるのでしょう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7885080" y="476280"/>
            <a:ext cx="112572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箱にブーツ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入ら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8045280" y="1341360"/>
            <a:ext cx="109872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現状ではブーツを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どかさない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扉が開か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475320" y="509904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雑誌が捨てられ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7667640" y="566100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新聞を捨てよ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7812000" y="508464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新聞は資源ごみ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出しては。」部屋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ｽﾍﾟｰｽを広くするた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6372360" y="566100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も、この中に全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収まっている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良いと思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7524720" y="6237360"/>
            <a:ext cx="1081080" cy="46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雑誌の中でほし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情報は、その中の少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後入らないですよね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6659640" y="3716280"/>
            <a:ext cx="223200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まずは使わない食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リサイクル・処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期限切れの食品を処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品は同じグループに収納す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7812000" y="458136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乾物はすぐ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買ってしまうｽ（ﾄｯｸを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記憶してないから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9"/>
          <p:cNvSpPr/>
          <p:nvPr/>
        </p:nvSpPr>
        <p:spPr>
          <a:xfrm>
            <a:off x="6084720" y="6237360"/>
            <a:ext cx="1081080" cy="46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捨てる感覚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適切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395280" y="371628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器は新しいもの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ほしくなり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378000" y="4518000"/>
            <a:ext cx="125856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靴の量を見直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季節外は別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場所へしま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430200" y="504036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一箇所ずつ物を見直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減ら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4572000" y="26028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収納量より物が多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ので、玄関に置く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4"/>
          <p:cNvSpPr/>
          <p:nvPr/>
        </p:nvSpPr>
        <p:spPr>
          <a:xfrm>
            <a:off x="3203640" y="429264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ｷｯﾁﾝのｼﾝｸ下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箱が大き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5"/>
          <p:cNvSpPr/>
          <p:nvPr/>
        </p:nvSpPr>
        <p:spPr>
          <a:xfrm>
            <a:off x="1763640" y="400536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乾物缶詰などｽｰﾊﾟ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安売りしている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必ず買ってしまい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6"/>
          <p:cNvSpPr/>
          <p:nvPr/>
        </p:nvSpPr>
        <p:spPr>
          <a:xfrm>
            <a:off x="1649520" y="514512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調理器具っ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いっぱいありま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932360" y="5805360"/>
            <a:ext cx="93816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男の人は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片付けな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6443640" y="4437000"/>
            <a:ext cx="1081080" cy="46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食器の棚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手前のものし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使っていませ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3492360" y="119700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書棚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買い足さ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3"/>
          <p:cNvSpPr/>
          <p:nvPr/>
        </p:nvSpPr>
        <p:spPr>
          <a:xfrm>
            <a:off x="3448080" y="193032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奥に収納し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ものは長い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ほおっ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おきま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8"/>
          <p:cNvSpPr/>
          <p:nvPr/>
        </p:nvSpPr>
        <p:spPr>
          <a:xfrm>
            <a:off x="4788000" y="1125360"/>
            <a:ext cx="103824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積み上げ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使いにくそ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3203640" y="2565360"/>
            <a:ext cx="111420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平らにした白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棚の上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何を置く？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3348000" y="3429000"/>
            <a:ext cx="1143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収納が足りなくなる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つい手軽な家具（ｶﾗ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ﾎﾞｯｸｽ等）を買い足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6"/>
          <p:cNvSpPr/>
          <p:nvPr/>
        </p:nvSpPr>
        <p:spPr>
          <a:xfrm>
            <a:off x="4500720" y="2133720"/>
            <a:ext cx="104616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本は立て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置いたほう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取り出しやす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5651640" y="3068640"/>
            <a:ext cx="1028520" cy="49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扉があると何で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入れちゃいますよ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5381640" y="1868400"/>
            <a:ext cx="112392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取りやす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並べられない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5478480" y="2451240"/>
            <a:ext cx="105264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すぐに重ね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収納してしまいま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2"/>
          <p:cNvSpPr/>
          <p:nvPr/>
        </p:nvSpPr>
        <p:spPr>
          <a:xfrm>
            <a:off x="4356000" y="2781360"/>
            <a:ext cx="106200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本は立てて収納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したいけど雑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などは立ちにくいで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4"/>
          <p:cNvSpPr/>
          <p:nvPr/>
        </p:nvSpPr>
        <p:spPr>
          <a:xfrm>
            <a:off x="378000" y="6058080"/>
            <a:ext cx="125856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など郵便物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すぐたま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"/>
          <p:cNvSpPr/>
          <p:nvPr/>
        </p:nvSpPr>
        <p:spPr>
          <a:xfrm>
            <a:off x="1619280" y="609300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ザルとボール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数はベスト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4788000" y="414972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現在の家族それぞれ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靴が何足ある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実は私も知らな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2843280" y="494172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昔の書類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全て必要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8"/>
          <p:cNvSpPr/>
          <p:nvPr/>
        </p:nvSpPr>
        <p:spPr>
          <a:xfrm>
            <a:off x="4356000" y="4941720"/>
            <a:ext cx="125892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靴の量と種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が多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2916360" y="5950080"/>
            <a:ext cx="125892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買っ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忘れてしま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4572000" y="3500280"/>
            <a:ext cx="1108080" cy="49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積んでしまうとどこ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何の本がある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わかりませんよ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テキスト ボックス 70"/>
          <p:cNvSpPr/>
          <p:nvPr/>
        </p:nvSpPr>
        <p:spPr>
          <a:xfrm>
            <a:off x="1835280" y="2133720"/>
            <a:ext cx="64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まずは全体を眺めてみ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似た物同士を固まりにまとめ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似た物同士に名前をつけてあげ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:\原稿\1家事塾\茅ケ崎館\tigasakikan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491920"/>
            <a:ext cx="7925040" cy="2521080"/>
          </a:xfrm>
          <a:prstGeom prst="rect">
            <a:avLst/>
          </a:prstGeom>
          <a:solidFill>
            <a:srgbClr val="d9d9d9">
              <a:alpha val="4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すっきりしないわけ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すっきりとはどういうことか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といったテーマでまとめ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kao yuko</cp:lastModifiedBy>
  <dcterms:modified xsi:type="dcterms:W3CDTF">2011-03-12T14:55:34Z</dcterms:modified>
  <cp:revision>49</cp:revision>
  <dc:subject/>
  <dc:title>PowerPoint Presentation</dc:title>
</cp:coreProperties>
</file>